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1220-6FEC-4727-A929-5F0152203485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E264-DD0E-472C-9D19-F70D53FB3216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D3B8-29EA-44BB-A187-B1B9D7B5F73C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91320" y="299880"/>
            <a:ext cx="436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cc.ac.uk/events/research-data-management-forum/rdmf4-dealing-sensitive-data" TargetMode="Externa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Responsible Data Use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Data restriction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965196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R. Downs, Ph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ocioeconomic Data and Applications Center (SEDAC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enter for International Earth Science Information Network (CIESIN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umbia Universi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4" name="Picture 8" descr=""/>
          <p:cNvPicPr/>
          <p:nvPr/>
        </p:nvPicPr>
        <p:blipFill>
          <a:blip r:embed="rId3"/>
          <a:stretch/>
        </p:blipFill>
        <p:spPr>
          <a:xfrm>
            <a:off x="4154400" y="7658280"/>
            <a:ext cx="2500560" cy="17524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"/>
          <p:cNvPicPr/>
          <p:nvPr/>
        </p:nvPicPr>
        <p:blipFill>
          <a:blip r:embed="rId4"/>
          <a:stretch/>
        </p:blipFill>
        <p:spPr>
          <a:xfrm>
            <a:off x="6692760" y="7924680"/>
            <a:ext cx="112572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ome data contain restrictions on who may access them and how they may be used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strictions may be placed on data for various reasons and may be permanent or temporary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strictions that apply to a data product or service must be recognized, managed, and complied with so that the restrictions are not violated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managers must ensure that restricted data are adequately protected so that they are not disseminated to unauthorized person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users must ensure that their use does not violate any restrictions that have been placed on the data they are using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strictions may be placed on data to protect individuals or interes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tellectual property rights or licensing restrictions may apply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Laws, regulations, or policies may restrict access to some data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ecurity – Information about locations or property may be restricted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fidentiality – Information about individuals may be restricted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nvironmental Protection – Information about locations or inhabitants may be restricted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Violating restrictions that have been placed on data is unethical and could result in civil or criminal penalties, such as fines, loss of privileges, or incarceration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at kinds of restrictions are placed on data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634680" y="2895480"/>
            <a:ext cx="11861640" cy="5639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ccess and use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strictions may limit who may have access to the data or how they are used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ccess may be authorized only for specific purposes, such as educational use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strictions may limit whether data may be used to create new products or service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Modifications or derivations of the data may be prohibited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semination and cop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strictions may limit who is authorized to distribute the data, how the data may be distributed, and whether copies of the data may be created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ion may be limited to a specific location or service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ion may be limited to a specific time period, which may be in the future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strictions on dissemination may apply to the data and to all derivations or products created from the data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hods for restricting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dentify data that must be restricted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abel data as restricted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tore data in secure faciliti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nsport data using secure mean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clude with the data, a description of the conditions under which the data are restricted along with acceptable us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stablish infrastructure and procedures for storing, managing, disseminating, accessing, copying, transmitting, and using restricted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in staff on how to protect data from unauthorized us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hods of providing access to restricted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Limit access to authorized individuals or rol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nable access within a facility only accessible by authorized person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Limit access to authorized individuals with password-protection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stablish a data enclave without capabilities to copy or transmit data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Provide options for accessing restricted dat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ire evidence of approval or expertise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ire users to sign a confidentiality, non-disclosure, or data use agreement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ire approval of data protection plan from potential user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est an exception or waiver of restrictions under certain condition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est clearance for specific individuals to access restricted data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est declassification of restricted data from relevant authority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Modify the data to protect restricted portion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hange aspects of data that are restricted (recode, generalize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move or obscure the portions of data that are restricted (redact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viding access to restricted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82400" y="2324160"/>
            <a:ext cx="1211580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Review or establish organizational policies on restricted dat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Identify conditions under which restricted data may be disseminated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elect a dissemination method that does not violate restrictions. 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reate a data dissemination plan that complies with restrictions.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Request approval from authorities for data dissemination plan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isseminate data in accordance with data dissemination plan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Monitor data dissemination to ensure compliance with all restrictions on data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ease dissemination if restrictions on data are violated and immediately report any violations to authorities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58720" y="1980720"/>
            <a:ext cx="11862000" cy="723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here to go for more inform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Best Practices for Sharing Sensitive Environmental Geospatial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http://www.geoconnections.org/publications/Key_documents/Sensitive_Env_Geo_Data_Guide_EN_v1.pdf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Computer Security Act of 1987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http://csrc.nist.gov/groups/SMA/ispab/documents/csa_87.txt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Confidentiality Issues in Geospatial Data Application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http://sedac.ciesin.columbia.edu/confidentiality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Dealing With Sensitiv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dcc.ac.uk/events/research-data-management-forum/rdmf4-dealing-sensitive-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ICPSR – Restricted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http://www.icpsr.umich.edu/icpsrweb/ICPSR/access/restricted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Guidelines for Providing Appropriate Access to Geospatial Data in Response to Security Concern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http://www.fgdc.gov/policyandplanning/Access%20Guidelines.pdf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ta Management Plans: Data access, sharing, and re-use polici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oviding access to your data: Handling Sensitiv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oviding access to your data: Righ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ubmission agreements: Constrain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Robert R Downs</cp:lastModifiedBy>
  <dcterms:modified xsi:type="dcterms:W3CDTF">2011-12-22T19:17:26Z</dcterms:modified>
  <cp:revision>76</cp:revision>
  <dc:subject/>
  <dc:title>ESIP Federation 101</dc:title>
</cp:coreProperties>
</file>